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5C0-F5A6-4683-8E87-02540D4B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610-7BBE-42FE-8624-BB5B5831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3954-E982-4654-BD96-EF37DA49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298-EA5C-4705-8537-1CDC56A9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1DC-A2C3-47D0-978C-8ADAD84B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649E-FC3C-4A8E-9D9C-D0B3DB05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74C-877B-4587-811F-DB8AC79A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6DDF-E0D4-4CEF-B848-AB4CCBA6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469-E2DB-46DF-A390-F8DB8A6B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2BB5-84C6-44B9-9C34-B8FE807D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868D-FC54-4B0B-B122-43B8D528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3D00-0F1A-4F50-8856-C718B384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F5E4-140C-4497-93AF-6CC98039E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gmr1" descr=""/>
          <p:cNvPicPr/>
          <p:nvPr/>
        </p:nvPicPr>
        <p:blipFill>
          <a:blip r:embed="rId1"/>
          <a:stretch/>
        </p:blipFill>
        <p:spPr>
          <a:xfrm>
            <a:off x="1731960" y="2095560"/>
            <a:ext cx="568008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286000" y="51055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 Board Botto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92” x 6.21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43200" y="502920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Logic Board Top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37” x 5.9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ic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396040" cy="21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cvr" descr=""/>
          <p:cNvPicPr/>
          <p:nvPr/>
        </p:nvPicPr>
        <p:blipFill>
          <a:blip r:embed="rId1"/>
          <a:srcRect l="0" t="20671" r="0" b="0"/>
          <a:stretch/>
        </p:blipFill>
        <p:spPr>
          <a:xfrm>
            <a:off x="1828800" y="1494000"/>
            <a:ext cx="5551560" cy="28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590920" y="480060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Board Botto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.07” x 6.07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5T17:09:49Z</dcterms:created>
  <dc:creator>Tom Duncan</dc:creator>
  <dc:description/>
  <dc:language>en-US</dc:language>
  <cp:lastModifiedBy>R. J. (Bob) Schetgen, KU7G</cp:lastModifiedBy>
  <cp:lastPrinted>1999-10-06T20:20:56Z</cp:lastPrinted>
  <dcterms:modified xsi:type="dcterms:W3CDTF">1999-12-20T22:08:20Z</dcterms:modified>
  <cp:revision>5</cp:revision>
  <dc:subject/>
  <dc:title>No Slide Title</dc:title>
</cp:coreProperties>
</file>